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B3E0-70CE-4FBA-B94D-BBA0E9A6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33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172-F52A-46BA-917B-4454C1A3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3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914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495-822B-4CFC-B82C-220DBE85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91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49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3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91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49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B7C-6725-4169-9EA9-CC49AFA6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F1F2-514E-40E3-A3FE-17EF7855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0630-D976-4FA3-B333-0EBA9479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CC67-FCF5-4C62-8043-1208F3C5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81CE-F557-4E0A-833C-107B1D11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49D2-6D10-4551-8FDA-9AEF9366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01E9-1494-4EB9-883B-1C47FD1B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333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D5FC-0727-41AC-A3FF-B09AA982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CFE-1ECA-499C-A1C2-724F087B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914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2DD3-ADAE-4D0B-A89A-435C369D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CD26-0FD5-4F58-93C3-06E2904C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333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C87A-5248-4F44-B6B1-0673BAD4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333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914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A713-EDB8-4042-A509-AC630FE9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491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649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33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491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649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12CF-4C93-432B-A67D-07E08FE0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AA5-8792-44E3-A6BE-4F2F4CCB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273-81CB-48E2-97FA-EC6F7628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020-DBE9-409E-A5F3-99977200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5AD-B52B-4062-9885-FE38B8C8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33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1F7-AB06-4A09-A006-E391D06E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914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3CA-F75F-414B-9251-5A263F60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33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3B0-E84A-4B2C-AC55-16A05562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CAFC-1CFC-41D1-9BE6-DA890F9FFE4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5047-FB4A-48CD-BBCE-E6ED1B347CE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edicting, Observing, Hypothesiz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274320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’s on the bottom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your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hypothesis is always based upon evidence.  It’s the logical conclusion you have based upon the evidence at hand.  What’s your evidenc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’s on the bottom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e to a consensus in your group as to what you think the answer i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Vs. Scienc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was the cube exercis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cienc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was it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ike scienc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o Review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your group, make sure everybody can define and give an example of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ob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ed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hypothe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now the difference between observations, predictions, and hypothes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 able to make an observation, prediction, and hypothesis… that is not confused with one of the other tw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edictions vs Hypothes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EDICTION: The observation you think you will make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Basically, what you think is about to happen.  The logical outcome of your knowled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f these is a predic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redict that the shark will catch fire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redict he will be terrified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redict there will be fewer viruses than before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redict the dogs and sheep won’t get along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redict there will be a gravitational attraction in between the two globes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edictions vs Hypothes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YPOTHESIS:  Your propose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xplan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echanis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ou think is responsible for what’s going 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ES: “It will catch fire because it’s swimming in gasoline near a fire, and gasoline is highly combustible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: “It will catch fire because I read in a book that it would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ystery Cub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a moment, you will receive cubes.  YOU MAY NOT MOVE THE CUBE AT ALL, NOT EVEN A LITTLE POK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ST:  What questions can you pose about your cub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’s on the bottom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an initial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redic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write it dow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: a prediction is an observation you think will prove accur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’s on the bottom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your group, make as man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bservation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bout the cube as you ca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just making OBSERVATIONS, no hypotheses or predictions right now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’s on the bottom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you have a new predictio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not erase or cross out your first one!  Why no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2:29:08Z</dcterms:created>
  <dc:creator>Rebecca Stang</dc:creator>
  <dc:description/>
  <dc:language>en-US</dc:language>
  <cp:lastModifiedBy>Rebecca Stang</cp:lastModifiedBy>
  <dcterms:modified xsi:type="dcterms:W3CDTF">2009-08-28T17:55:24Z</dcterms:modified>
  <cp:revision>33</cp:revision>
  <dc:subject/>
  <dc:title>Predicting, Observing, Hypothesizing</dc:title>
</cp:coreProperties>
</file>